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DA4-BCE2-4C05-B847-3FE122D3C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21AD-56B5-407D-911E-D975E514F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841-026E-4271-9EC1-83D98558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7EB-CAB9-4B65-9B02-DDE17DE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C31-BF54-4432-8171-C59BC7A7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B87-6FC3-4B6B-A90F-881CA3BD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AC3A-97EA-4FFB-B3BE-25A207A2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E19D-6F99-4138-AB8E-446AAD8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920-2F60-4B65-96FE-D05F577A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8EC9-CA60-427C-ABC8-69230524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6E4E-1923-4137-8F97-EFDE976A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E4DC-D1DF-44C1-B83B-FAD8D10B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921E-B782-473C-BEF6-16285B1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1FD-ECC8-478B-809C-915E8931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5223-702E-4DB8-AC4A-0B7E993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3D7D-21AF-46F1-9D8B-226B324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EFB1-19F0-4A3A-BA6D-4F066DF3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C7B0-ADF3-4514-B2FA-EFECC4B1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1C30-CE88-4067-8DED-3E970F4F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A14-E329-4BE7-B2F7-352BCB9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FE0-5DDA-4CE0-977E-C4102F64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D80-EA17-4851-81F3-80C5830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3BA-D740-421C-85D0-3D86E908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22F-933A-47CB-9AC5-7A9282F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1FF-5A32-4CE9-A371-F55390C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ACA-66A9-4928-9B56-ABF5356F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961-B013-4065-8B18-6F5985D71DF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39C-3966-4680-8F13-8E20601DFAF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ar1476" TargetMode="External"/><Relationship Id="rId2" Type="http://schemas.openxmlformats.org/officeDocument/2006/relationships/hyperlink" Target="consultantplus://offline/ref=3A596D0D948F2E303421EE5800A2404C4B463D316379106ABD05602B99830309A1DEDE5FC1DFCF3DN8VA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228600" y="2209680"/>
            <a:ext cx="8534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Порядок возмещения средств из фонда социального страхования на финансовое обеспечение предупредительных мер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06668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едеральный закон от 1 декабря 2014 г. N 386-ФЗ "О бюджете Фонда социального страхования Российской Федерации на 2015 год и на плановый период  2016 и 2017 год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38080" y="411480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использования в качестве дополнительного источника финансирования мероприятий по охране труда  части сумм страховых взносов на обязательное социальное страхование от несчастных случаев на производстве и профессиональных заболеваний, (до 20%) на предупредительные меры по сокращению производственного травматиз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362320" y="14479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666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 денежных средств за вычетом расходов, произведенных в предшествующем календарном году на выплату пособий по временной нетрудоспособности в связи с несчастными случаями на производстве или профессиональными заболева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438280" y="1522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Министерства труда и социальной защиты  РФ  от 10 декабря 2012 г. N 580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 утверждении правил финансового обеспечения предупредительных мер по сокращению производственного травматизма  и профессиональных заболеваний работников и санаторно-курортного лечения работников, занятых на работах с вредными и (или) опасными производственными факторами»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Финансовому обеспечению за счет сумм страховых взносов подлежа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расходы страхователя на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) проведение специальной оценки условий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) реализация 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) обучение по охране труда следующих категорий работников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руководителей и специалистов служб охраны труда организ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ленов комитетов (комиссий) по охране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уполномоченных (доверенных) лиц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) приобретение работникам, специальной одежды, специальной обуви и других средств индивидуальной защиты (далее - СИЗ) в соответствии с типовыми нормами бесплатной выдачи СИЗ (далее - типовые нормы) и (или) на основании результатов проведения специальной оценки условий труда, а также смывающих и (или) обезвреживающи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90720" y="228600"/>
            <a:ext cx="815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) санаторно-курортное лечение работников, занятых на работах с вредными и (или) опасными производственными фактор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) проведение обязательных периодических медицинских осмотров (обследований) работ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) обеспечение лечебно-профилактическим питанием (далее - ЛПП) работников, для которых указанное питание предусмотрено Перечнем производств, профессий и должностей, работа в которых дает право на бесплатное получение лечебно-профилактического пит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) приобретение страхователями, работники которых проходят обязательные предсменные и (или) предрейсовые медицинские осмотры, приборов для определения наличия и уровня содержания алкоголя (алкотестеры или алкометр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) приобретение страхователями, осуществляющими пассажирские и грузовые перевозки, приборов контроля за режимом труда и отдыха водителей (тахографов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) приобретение страхователями аптечек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02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2322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едоставления государственной услуги заявитель подает в территориальный орган Фонда на бумажном носителе или в форме электронного документа заявление о финансовом обеспечении предупредительных мер (далее - заявление)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приложени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Административному регламент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38080" y="19843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черпывающий перечень документов, необходимых в соответствии нормативными правовыми актами для предоставления государственной услуги, подлежащих представлению заявител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293184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явлению прилагаются документы, необходимые для предоставления государственной услу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лан финансового обеспечения предупредительных мер в текущем календарном году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прилож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(далее - план финансового обеспечения предупредительных мер), подготовленный с учетом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ллективного договора (соглашения по охране труда между работодателем и представительным органом работников), с указанием суммы финансирова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опия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пия (выписка из) коллективного договора (соглашения по охране труда между работодателем и представительным органом работник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для обоснования финансового обеспечения предупредительных мер заявитель представляет документы (копии документов), обосновывающие необходимость финансового обеспечения каждого из мероприятий, включенных в план финансового обеспечения предупредительных ме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08520"/>
            <a:ext cx="9144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БЛОК-СХЕМА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ПОСЛЕДОВАТЕЛЬНОСТИ ДЕЙСТВИЙ ПРЕДОСТАВЛЕНИЯ  ГОСУДАРСТВЕННОЙ УСЛУГИ ПО ПРИНЯТИЮ РЕШЕНИЯ О ФИНАНСОВОМ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ОБЕСПЕЧЕНИИ ПРЕДУПРЕДИТЕЛЬНЫХ МЕР ПО СОКРАЩЕНИЮ ПРОИЗВОДСТВЕННОГО ТРАВМАТИЗМА И ПРОФЕССИОНАЛЬ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ЗАБОЛЕВАНИЙ РАБОТНИКОВ И САНАТОРНО-КУРОРТНОГО ЛЕЧЕНИЯ РАБОТНИКОВ, ЗАНЯТЫХ НА РАБОТАХ С ВРЕДНЫ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И (ИЛИ) ОПАСНЫМИ ПРОИЗВОДСТВЕННЫМИ ФАКТОРА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95480" y="1905120"/>
            <a:ext cx="3124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14600" y="3505320"/>
            <a:ext cx="3886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рриториальный орган фон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600200" y="2590920"/>
            <a:ext cx="5715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явление (лично, почтой, в электронном виде) с комплектом документов (лично, почтой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Прямая со стрелкой 6"/>
          <p:cNvCxnSpPr>
            <a:stCxn id="120" idx="2"/>
            <a:endCxn id="122" idx="0"/>
          </p:cNvCxnSpPr>
          <p:nvPr/>
        </p:nvCxnSpPr>
        <p:spPr>
          <a:xfrm flipH="1">
            <a:off x="4455360" y="22114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stCxn id="122" idx="2"/>
            <a:endCxn id="121" idx="0"/>
          </p:cNvCxnSpPr>
          <p:nvPr/>
        </p:nvCxnSpPr>
        <p:spPr>
          <a:xfrm flipH="1">
            <a:off x="4455360" y="31258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5" name="Прямоугольник 18"/>
          <p:cNvSpPr/>
          <p:nvPr/>
        </p:nvSpPr>
        <p:spPr>
          <a:xfrm>
            <a:off x="762120" y="41911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личие оснований, по которым заявление и комплект документов не может быть принято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838080" y="5486400"/>
            <a:ext cx="2210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ление и комплект документов  с обоснованием причин возврат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Соединительная линия уступом 42"/>
          <p:cNvCxnSpPr>
            <a:stCxn id="126" idx="1"/>
            <a:endCxn id="120" idx="1"/>
          </p:cNvCxnSpPr>
          <p:nvPr/>
        </p:nvCxnSpPr>
        <p:spPr>
          <a:xfrm flipH="1" rot="10800000">
            <a:off x="836640" y="2056680"/>
            <a:ext cx="2057760" cy="3886920"/>
          </a:xfrm>
          <a:prstGeom prst="bentConnector3">
            <a:avLst>
              <a:gd name="adj1" fmla="val -11111"/>
            </a:avLst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44"/>
          <p:cNvCxnSpPr>
            <a:endCxn id="125" idx="0"/>
          </p:cNvCxnSpPr>
          <p:nvPr/>
        </p:nvCxnSpPr>
        <p:spPr>
          <a:xfrm flipH="1">
            <a:off x="1904400" y="3885120"/>
            <a:ext cx="9910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48"/>
          <p:cNvCxnSpPr>
            <a:stCxn id="125" idx="2"/>
            <a:endCxn id="126" idx="0"/>
          </p:cNvCxnSpPr>
          <p:nvPr/>
        </p:nvCxnSpPr>
        <p:spPr>
          <a:xfrm>
            <a:off x="1905120" y="5105520"/>
            <a:ext cx="3888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0" name="Прямоугольник 58"/>
          <p:cNvSpPr/>
          <p:nvPr/>
        </p:nvSpPr>
        <p:spPr>
          <a:xfrm>
            <a:off x="4876920" y="4191120"/>
            <a:ext cx="2666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страция принятого заявления с комплектом докумен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59"/>
          <p:cNvSpPr/>
          <p:nvPr/>
        </p:nvSpPr>
        <p:spPr>
          <a:xfrm>
            <a:off x="4191120" y="541008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Прямая со стрелкой 15"/>
          <p:cNvCxnSpPr>
            <a:endCxn id="130" idx="0"/>
          </p:cNvCxnSpPr>
          <p:nvPr/>
        </p:nvCxnSpPr>
        <p:spPr>
          <a:xfrm>
            <a:off x="5257800" y="3885840"/>
            <a:ext cx="9532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Прямая со стрелкой 20"/>
          <p:cNvCxnSpPr>
            <a:stCxn id="130" idx="2"/>
            <a:endCxn id="131" idx="0"/>
          </p:cNvCxnSpPr>
          <p:nvPr/>
        </p:nvCxnSpPr>
        <p:spPr>
          <a:xfrm>
            <a:off x="6210360" y="5105520"/>
            <a:ext cx="38880" cy="3052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30"/>
          <p:cNvCxnSpPr>
            <a:stCxn id="131" idx="2"/>
          </p:cNvCxnSpPr>
          <p:nvPr/>
        </p:nvCxnSpPr>
        <p:spPr>
          <a:xfrm flipH="1">
            <a:off x="6246000" y="63262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438280" y="76212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5238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до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1814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более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5720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б отказе предоставления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04812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  предоставлении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3886200"/>
            <a:ext cx="914400" cy="9144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Прямая со стрелкой 9"/>
          <p:cNvCxnSpPr>
            <a:endCxn id="136" idx="0"/>
          </p:cNvCxnSpPr>
          <p:nvPr/>
        </p:nvCxnSpPr>
        <p:spPr>
          <a:xfrm flipH="1">
            <a:off x="2742840" y="1675440"/>
            <a:ext cx="99144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2" name="Прямая со стрелкой 12"/>
          <p:cNvCxnSpPr>
            <a:endCxn id="137" idx="0"/>
          </p:cNvCxnSpPr>
          <p:nvPr/>
        </p:nvCxnSpPr>
        <p:spPr>
          <a:xfrm>
            <a:off x="5333760" y="1676160"/>
            <a:ext cx="106740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3" name="Прямая со стрелкой 15"/>
          <p:cNvCxnSpPr>
            <a:stCxn id="136" idx="2"/>
            <a:endCxn id="139" idx="0"/>
          </p:cNvCxnSpPr>
          <p:nvPr/>
        </p:nvCxnSpPr>
        <p:spPr>
          <a:xfrm>
            <a:off x="2743200" y="3200040"/>
            <a:ext cx="14104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4" name="Прямая со стрелкой 18"/>
          <p:cNvCxnSpPr>
            <a:stCxn id="136" idx="2"/>
            <a:endCxn id="138" idx="0"/>
          </p:cNvCxnSpPr>
          <p:nvPr/>
        </p:nvCxnSpPr>
        <p:spPr>
          <a:xfrm flipH="1">
            <a:off x="1561320" y="3200040"/>
            <a:ext cx="11818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5" name="Прямая со стрелкой 21"/>
          <p:cNvCxnSpPr>
            <a:stCxn id="137" idx="2"/>
            <a:endCxn id="140" idx="0"/>
          </p:cNvCxnSpPr>
          <p:nvPr/>
        </p:nvCxnSpPr>
        <p:spPr>
          <a:xfrm>
            <a:off x="6400800" y="3200040"/>
            <a:ext cx="991440" cy="68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Прямоугольник 23"/>
          <p:cNvSpPr/>
          <p:nvPr/>
        </p:nvSpPr>
        <p:spPr>
          <a:xfrm>
            <a:off x="1219320" y="6172200"/>
            <a:ext cx="3124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24"/>
          <p:cNvSpPr/>
          <p:nvPr/>
        </p:nvSpPr>
        <p:spPr>
          <a:xfrm>
            <a:off x="609480" y="5257800"/>
            <a:ext cx="4572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 заявителю в форме приказа (лично, почтой, в электро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" name="Прямая со стрелкой 26"/>
          <p:cNvCxnSpPr>
            <a:stCxn id="138" idx="2"/>
            <a:endCxn id="147" idx="0"/>
          </p:cNvCxnSpPr>
          <p:nvPr/>
        </p:nvCxnSpPr>
        <p:spPr>
          <a:xfrm>
            <a:off x="1562040" y="4800600"/>
            <a:ext cx="13341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9" name="Прямая со стрелкой 29"/>
          <p:cNvCxnSpPr>
            <a:stCxn id="139" idx="2"/>
            <a:endCxn id="147" idx="0"/>
          </p:cNvCxnSpPr>
          <p:nvPr/>
        </p:nvCxnSpPr>
        <p:spPr>
          <a:xfrm flipH="1">
            <a:off x="2894760" y="4800600"/>
            <a:ext cx="125820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0" name="Прямая со стрелкой 32"/>
          <p:cNvCxnSpPr/>
          <p:nvPr/>
        </p:nvCxnSpPr>
        <p:spPr>
          <a:xfrm flipH="1">
            <a:off x="2819160" y="5866920"/>
            <a:ext cx="216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1" name="Прямая со стрелкой 35"/>
          <p:cNvCxnSpPr>
            <a:endCxn id="135" idx="0"/>
          </p:cNvCxnSpPr>
          <p:nvPr/>
        </p:nvCxnSpPr>
        <p:spPr>
          <a:xfrm flipH="1">
            <a:off x="4493520" y="306360"/>
            <a:ext cx="39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r</dc:creator>
  <dc:description/>
  <dc:language>en-US</dc:language>
  <cp:lastModifiedBy>Андрей</cp:lastModifiedBy>
  <dcterms:modified xsi:type="dcterms:W3CDTF">2007-12-31T19:21:22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